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B8D5-95D5-45A1-BE18-D2B2861022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66C9-10AF-4ED0-A9D4-1746B056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6BCCFD-CA3E-4A5E-A939-3F88EAD7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7670AB-90F5-4479-972A-B7D03181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2FBFBC-8F14-4FFC-8650-1B9E87D8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619D44-EB24-4419-8FA7-C1458E43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8B422E-60A0-4A9F-A1D2-DFEB7803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43D852-1C77-4505-AB89-6F9D75E2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79AF6F-79FE-48B5-B1D7-99D2032D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D7E84C-95D8-4105-B7DC-80892F8FA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D80B0C-8EF5-44E4-BAD4-EA1F80B430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D220-FED7-4A54-A626-9156D85E17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F77F-6723-4BB3-B8D9-C542BFB4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F97E6-061E-4A0E-8DB4-0877C62A6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75375-F6C4-4F5D-B936-C8E7776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2D312-ADB9-4BA2-93E4-60D42DED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830DF-C28B-4F0F-AB37-DF9FDC56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5EC61-8626-420A-AD10-9184EC37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8D33E-2538-48A5-B3D0-C139CEC2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DCF0A-AD5F-456A-A02D-0D886DEB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67FA8-1318-4136-A53A-48FA7BE5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CEB7-0FC6-41C7-9705-6B0E103F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8E9B75-432A-4D11-81A3-9AC2FA62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FF4B-876D-4ECB-B7B7-309BC656A6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F220E-E1E3-4F94-AB95-6F25C92E9F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365C0E-DD82-475A-A39A-3E8C852EE4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DEA98C-B689-4D3D-AE13-5BC338D9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DEC539-FE86-4EFB-8D3D-1BF1671B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EA3E79-E23B-4EB7-B733-7379207C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1D9DE-3295-4A04-8B05-55D4D6196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853A64-E2E7-4DD7-9008-7A62D238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66CF3B-EB0A-40F4-A7E1-6159A476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59954D-14D8-475F-A43A-255314DB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FDB91C-9AA3-47BF-9F9D-5F162CDF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6EEB6-4C98-4928-A987-DB9EC376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AE18B3-5C59-4C46-A72D-89B9B2AB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1FF362-5679-4CB7-A6A8-EBC55FE5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1A9FF5-ADD3-4965-B297-8E39CAF7B1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411B2-6C4D-4A98-A588-05FEAD952C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A567F-B46C-4926-B7B9-86438A6E9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4B0B5E-B650-4CB5-BE29-305A19AE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414168-21C4-4562-ACF8-4E42D210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430B4-3407-4CCC-931F-5B1A5996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643176-7F74-4B63-85A4-3F7DF8F0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C557E4-27BD-462D-9190-522776F5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87575-64B9-4474-9BAB-858F0C3DC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FA2AA8-8434-49C6-8464-44B42B83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83D03B-16FF-4D36-BA1E-965665C7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96B38B-FE16-4E13-B6DE-E3B86EFC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D6F50C-3951-448D-96D2-696EF75D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22C19D-CC9B-40CB-A87E-E8A6B40B19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78BF5-15F9-467B-9825-6BCF3B7728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5A60D-4AF3-4478-9CAC-EF538057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30FA25-B53F-42D9-833D-2E0D3DD5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3A0D4-F814-4E97-A5C9-3A73E6EC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2E6322-AE1C-4E8E-A344-5E5D0D9E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7A761-6896-4122-937A-8F8C86A5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08919-51E7-43D0-9B91-A91BCF0E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27F20-39E2-4356-97B6-AD40F7A4A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EB8878-0051-4A2A-A3ED-3F2D7C4A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8D597-4B83-4E58-9275-9F8B46BC4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BA33B-DEA3-4873-A2F1-67A0789AF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862A3B-1FE9-455E-ACC7-763D02BE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0AC43-5BE5-43C3-9D18-E093B89797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11770-DAA1-4AB9-9153-C84413DE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BB523-1F3E-4644-B96D-19B51B0A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2A3BB-9D21-4686-8676-942558CE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5F04A-4A1C-4555-AE7F-8DCC2C1F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F4176-B70C-4659-B0E8-4E35854C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76308-D689-4B1A-9514-72430AAB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9009F-AB0B-4BA5-87C6-194537B0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57016-EE57-446A-9B3A-83129282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D0669-0B3B-4405-A7CA-070F4D6E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0042A-72FF-481A-99A5-81654F6F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7CFC97-AC45-4B37-9E47-8EF6F1AD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97A3D-1CDE-49B3-B881-CD31F832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C5834-600F-4274-8B5D-88F3D2D7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9CBF18-680E-4731-A1C3-308237A7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33ADB-6E5B-4843-B328-98D350D1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746793-49F7-4778-9CE3-45FF29CC1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2BC64-FE8A-4835-AF8C-3CA5B14D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33B4E-751C-42D6-8CFE-0F465D9B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95FB0F-71DE-4D54-B656-ADC4E41C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AB656-BAE7-4AB4-BA65-759A63FB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E34B3-F0CF-4C4C-BB5B-A0DD8091A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53080-848C-4701-992E-C2AB655F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3A4C9-C12D-4C47-882A-BD155E66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DEC10-B914-4D4C-B1D6-59BFF85A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D52B5-0ECB-4285-A81B-408905F9C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CF498-14F4-4BFB-8889-51D24B32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0A0C9-3B0F-44ED-8C54-B0E19273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80978-AB33-4113-ADED-7647B260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74D47-3783-48FC-B63F-DB1BB3C7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7F17E-0F54-4471-A06C-1113CA38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E9FBA0-71AF-46EB-907B-96628134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ED5D5-1A26-4A71-AD0C-0EFFBC87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4E20-E633-4571-AFE3-01D5A09A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E945D-350B-420B-B143-452CD30B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BC2C9-5B58-4F0E-A7CB-DD6BC636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5BE94-9B0B-4356-A2D7-09F77A56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104D2-E83D-40BD-A15B-DFC33CF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E97E8-896D-44C0-AF6C-45BDAA4FB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66CFBF-E40F-4044-B1F9-34BEC5F7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6B57D-3480-417E-866D-FC92476B4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433385-E329-4D5F-86FE-5961C1F28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6ED40-E90B-41A8-8EC1-896B900D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26EB5-37AF-49F1-892A-295E3C684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F3B1BA-CAC1-4BEF-AF37-86410BBA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A4613C-C301-4DEC-8CEA-CB3A594F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C3512F-A302-49F0-96B8-B7C72E67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D0BCB2-6258-4D4D-87CA-FEA39B76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17CF0-4048-4494-BCC3-9C20CF974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9602B-9F24-4B1B-A38E-E26520B1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D96389-214F-4F77-B9FF-83D92F2E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E78A4A-E108-4BB3-8961-5921D16C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A3F08-ECB4-48B7-BB18-43E93E08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C41A6-2190-4396-AF32-9FE9731F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590D0-AE67-45D2-8652-F09035A1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15B071-BAA7-410F-8898-002D2C0A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544408-9C56-4991-A833-1AEBB7CB1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8C28D5-5688-4D6C-81D8-82F1C407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A1F34A-88F8-497E-88F1-2B38F3E5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6D6DE-B3C5-4988-B417-63CD9059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525EA-B30F-4942-A7C7-11DBC39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78466-3C3D-454D-9C27-2049175C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0CEAF4-BB02-4CC7-876C-8B61F991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EC80B-97F5-494A-82AE-62E18114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20B0E9-0254-4F22-9945-692EF578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3B9441-A0AA-4730-8359-B74E30D1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2F7E92-EDE9-4A98-BA6B-F58B1679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237EE-E10A-465F-8D1B-62EA2565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13EBFB-6A1F-4B87-A53E-EB6A31486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B6D4ED-D5F6-4311-B2F4-CBED166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992EF8-7642-464D-9ED2-E753312B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65B53-1051-4602-9A8C-4BC8BEE9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B43DEA-EF8A-4586-90A2-82C21750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0E3BCA-0C4D-4307-BC35-482BA3EA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026F27-CA84-477A-B8B0-732A9E01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D55B18-0717-4CFB-97DD-05F405CE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ACE4ED-EFE9-4779-92B8-602B14EC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6388C6-8AD9-4C3A-8F6F-0EAF0AB6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D5A70E-2618-48A6-AA14-DCAD00DD1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442EF2-F465-4555-8A36-4135EC77B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39EBD5-8473-4C7D-8F50-A4DBE0F3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0665B4-E17D-4D23-82BF-116FF2AE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EAAD5-30C8-4299-A13A-B16CD308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268B94-EBEB-41CD-A7E4-A8B00277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16F8E-DE74-4D3A-99A0-8FF3356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BECEF5-71D5-4383-86E1-7A331A5F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C196E3-B907-4160-A345-FD1229EA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E6B0E-7424-4BCB-994C-DBAED95E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62D45-E644-4F12-9481-8B07C01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387F48-A1B2-4675-AF07-B4018F4F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6AE0A-04FA-44AB-AE00-3E1A6F033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9DA9EA-EC20-451A-A2F8-99064082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5E0CD8-253F-4111-8E2E-FDD4DD77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E48EEC-B69E-4B81-8312-9AD02FFF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AB989D-25AF-4310-B3DD-6BF7C173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927151-311E-4AC6-B4D1-542F9361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EF4D6D-C888-4AFB-BC7B-D9E9C634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2938B8-4C8B-4F8D-B590-78259B1C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6066FD-3385-44B5-A125-7C008F38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45D52D-0055-4EB1-8451-0A9223DF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2EEC81-8D69-469F-99E5-1A374978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47B02A-C1F6-4962-8BAE-121C81C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A5E09D-AA87-49F8-9F25-14A8348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E23C0-DAAD-4E2E-A7F3-986DB121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2EEFA9-F5DE-4653-A320-B741B403B1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58E5BA-86FE-47BD-B003-600AFBC7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1EF4C-893B-437F-A714-9D6D975D3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B1D4BF-1181-44B3-85FE-84D9EFAB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3D1DD6-0424-48D5-A251-7830DDBE9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FC346A-AFD8-4EC4-874D-5DBD23D9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FB76C5-B592-4751-B4FA-E1C93730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640A2D-6ACB-42C0-9F3F-D3D818890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7DA8B4-3B1F-4D94-A01F-593D3123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35716F-6FBC-4E5A-9DAF-30D57FAE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30ACFB-F5C7-4EE2-8DAD-11F40584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73E15A-A109-411B-A77B-62E84BAE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663FB-1C86-41F4-A587-0323B4DF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8AABEA-115A-4AB2-937F-617E42C7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7F2DA7-5E22-4955-AED3-99E2EF6DF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E359E0-99ED-419A-81AA-C2E8F27C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E18536-4625-475F-94C1-A3C55B2AC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078B79-A550-4ED0-9AC6-FAF4FAFDE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CC4B63-956A-4294-8E87-16B6488D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E0D51-BED9-487A-89DB-080ABB2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8E349C-00AD-46F5-A407-68CEF0FB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567A3C-122F-4666-AC26-15869CF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9C87CF-760F-447C-87F7-83E322F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267A4-1F0C-4CEC-9874-4196580D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360CB-07D3-4EE7-A197-215EE228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EF28A-0085-43D8-8CDC-5B329F36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9F4325-6AA6-417E-AADE-AFF16A4F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26BBDD-D1A6-4400-9FA8-D088A457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40244-8F70-4068-86D3-16CC291A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9D061-D63C-469A-B8B6-8020C693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73ACA-1106-40DF-9BF3-92889BD3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7DC66-BE00-4654-99A4-96C2210F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B73BC4-A015-49FB-B3A4-60A799AB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34331-0322-45B4-AC2F-AFFF8203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93E4B9-1E7F-471B-9472-CCF7F499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66EB2B-77CB-4018-AAAB-C4A5D128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B4505-E72C-4C2E-868A-7A344F90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B7955E-7DF6-4005-A77F-42CEDBA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92750-2A04-4161-B204-65AAAA65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1DE195-2785-4BAA-BF1F-2CC35A48E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36DFD8-979F-42ED-A843-3A71A36D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819CF-467C-4E56-BC50-242AE1A3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67297-5DC0-4901-B5F2-009C3D46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440A38-F71D-45DB-85DA-2536896A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5DF83-1D8D-479E-BC57-7343EA8A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13EAA-E28D-4BF0-83E3-363EE783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25CBF-B498-45CA-801D-0FA9EF0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7AA891-20C7-4FDC-8EAF-430E1259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8AD8E-C0B8-443E-ACE6-7E2C5FB3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E9124-8B7E-4C74-909A-88038FFF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9F8E95-526E-4C8E-9EE1-3FB69E18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D804C4-067E-430C-8732-39D14D43E2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EA176-FCF4-4516-B048-8C56AF2B55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C0343-62D7-4904-91A6-1EB12FD46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BEA4-E10E-47F4-893E-5B6EE8611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38848-0A47-49C3-9B06-01C261E89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BBD8A-CEB7-4F62-9EE7-60EF3154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8BC8-D19C-427C-953E-FC72F0FD2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007D-85FE-4C23-A1B3-09E3DCC74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120F-2439-48AC-83BB-6B5572F3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380B6-6841-4F77-8633-3D101C25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49B01-20B5-43CC-9555-414813A06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97F83-A3EC-45BE-BBCA-1DEBEE30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B1052-268E-494A-8459-7CA6C6FE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DB5D6-7EF0-43EF-ACA9-6C86F55DB82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BE4790-AAC9-42D4-B099-B0D9EDD96D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DDB7A-014B-437E-AF0A-94055926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1C88B3-76C2-4138-AF9D-F817D44C7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E9F0BF-92B2-4079-A9AE-B86C64D0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C766B-B909-4C70-8790-EDC3797B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F3E36-BFF1-4C28-8480-FB92432C3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F140BE-8570-4457-8C95-AE91C7F3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8E0ED5-49BE-47E4-AE95-B506BB3E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7E813-DC6F-4B50-9F8F-26488696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D2FA8F-92AF-40CD-921C-8CF1548A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907577-B16E-49B5-B13D-CF1A841B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D3FBD-358A-4D35-AA06-34D4D3F4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5F3E0-C32A-4ABD-BADF-34AF1FF45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EDD3FC-6299-4703-B938-32D0690963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5C5E5B-EB01-4E97-8DEF-06FE84123E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AC7139-491C-4C06-9466-FA4FF39BC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3896E5-9A03-4CD8-8129-644744C1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486971-78BA-41DC-8C5B-BFA0478E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F352DC-929B-4F00-9B41-0D0C87511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C6125-CECC-4535-B46F-21BB1648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4C4D53-1D1D-4886-9D5F-DD6A4505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321C46-F38B-4BFC-A36D-3F0110BE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38D07C-50E5-4E60-8118-4B30D25E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7BCF6-9B20-4EA2-AD64-221C6649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700A35-E9A4-4DAA-83A3-B81C577D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A3BF86-9AD1-48D2-98A9-745EADB0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3AB40F-F7D6-4CD0-B918-61145CD484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C540F-55A1-4D11-8A9A-A692E0DBD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1B88B-3374-4501-86D6-3D0E4E98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4B172-9252-44B3-9503-39680A40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3E803-CE92-40C5-9821-3C9A0444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BD226-567D-457E-9085-AA6A8663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E3F3B-62CA-40B4-917C-FC9135CD7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160A5-C6B6-4D65-8A20-40986443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8B8C3-94E6-49C5-936A-1BBAAA78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345C-D728-413E-8962-E507420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AB5C-18B4-4C73-AD85-2DEDB12F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6289B-DF3A-49A9-BBB4-95044308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5E0AB-71B0-49A8-AF8B-0B75CEFB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F2C13-5FC8-4C58-8AA8-B252F59F6E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D60A0-F144-4F84-88A0-DA46B6A92D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AB74C-FF64-4998-8523-F22691E7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D8323-4289-4A4B-9E5F-27104D68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C85FCF-9DC4-483C-BF5B-976E98641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E3EB0-E25A-444B-8A4B-A15AF0CDD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5FD46-F3A0-4BD4-BF11-840B6CCB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0E1D41-C5C3-47DF-B73D-6D43796F6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873F1A-1D16-4122-9E2A-919CA8BD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99A63-1452-40B9-99B0-F0FC2EDC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79F885-7712-4639-A994-41311390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224058-1487-4668-8C48-EC41E65B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3D4FC-0FF1-4ADF-A536-C33EBD9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915AF-4EFC-4E23-8A32-9DDE5CA7B0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AB41D8-1987-443D-885F-9FE31E80AE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A2F254-C5F5-4376-8E8A-73BC0DAF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9B838F-ABB7-48EB-B052-9C54B22D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F4E3-5452-42BC-A482-DFB3174ECB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E698-F375-4B78-B71C-02E1F4631AA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C490-F401-4D9F-B424-C99FCF838F7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3D34-42F1-4D4E-B760-98DD4876CB7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EC3EC-9D1B-4177-B509-CF58FF7A6FF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D633-2FDC-4E32-83A7-63567378DB2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73AD-24D1-45B1-AC59-08A8A3F09F6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E55A-1E8C-4C92-AD16-F1B5B69F355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BEC8-FAB9-4070-A9D3-CE926AB4DEE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CA4D-C773-4466-ABC1-B21DE0B47D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AAD01-F280-4C90-96BE-43D9BBD99B2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765F-79E3-4E1D-9F84-6E8289262F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DB0C-92D8-4EDD-8184-DF709D7BC27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1235-45D6-4FCE-9CB7-545B00B20D0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7822-D113-4C79-AE0E-A2919E3ED15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820D-157F-4B43-8D75-5B8B9D1300F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AD61-2265-4742-A717-517F72B81F09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3E5A9-4C7C-4B5D-BC83-09AB630AD8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FD72-3053-4DDD-B322-7FA41A1CE3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4497-8830-4866-BB8C-F0D4FF77894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6BA7-5E7F-43E7-A18F-A8F5A37718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399A-1E37-43D2-A788-ADAA8A2ACF7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3868-EA39-4E96-9BEE-0A249836744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0D09-538B-4CC0-8873-837D68FAA94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689200" y="2730600"/>
            <a:ext cx="558720" cy="4618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6480" y="2655720"/>
            <a:ext cx="8445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0" lang="en-US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练 习 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307800" y="1816200"/>
            <a:ext cx="910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文本框 2"/>
          <p:cNvSpPr/>
          <p:nvPr/>
        </p:nvSpPr>
        <p:spPr>
          <a:xfrm>
            <a:off x="355680" y="7160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连一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3"/>
          <p:cNvSpPr/>
          <p:nvPr/>
        </p:nvSpPr>
        <p:spPr>
          <a:xfrm>
            <a:off x="539640" y="1352520"/>
            <a:ext cx="10922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0-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2263680" y="1352520"/>
            <a:ext cx="10922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8+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矩形 10"/>
          <p:cNvSpPr/>
          <p:nvPr/>
        </p:nvSpPr>
        <p:spPr>
          <a:xfrm>
            <a:off x="3986280" y="1352520"/>
            <a:ext cx="109368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7-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12"/>
          <p:cNvSpPr/>
          <p:nvPr/>
        </p:nvSpPr>
        <p:spPr>
          <a:xfrm>
            <a:off x="5710320" y="1352520"/>
            <a:ext cx="10922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1-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矩形 14"/>
          <p:cNvSpPr/>
          <p:nvPr/>
        </p:nvSpPr>
        <p:spPr>
          <a:xfrm>
            <a:off x="7432560" y="1352520"/>
            <a:ext cx="1094040" cy="432000"/>
          </a:xfrm>
          <a:prstGeom prst="rect">
            <a:avLst/>
          </a:prstGeom>
          <a:solidFill>
            <a:srgbClr val="ffff00"/>
          </a:solidFill>
          <a:ln w="64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-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组合 40"/>
          <p:cNvGrpSpPr/>
          <p:nvPr/>
        </p:nvGrpSpPr>
        <p:grpSpPr>
          <a:xfrm>
            <a:off x="1244520" y="3638520"/>
            <a:ext cx="6432480" cy="707040"/>
            <a:chOff x="1244520" y="3638520"/>
            <a:chExt cx="6432480" cy="707040"/>
          </a:xfrm>
        </p:grpSpPr>
        <p:grpSp>
          <p:nvGrpSpPr>
            <p:cNvPr id="1005" name="组合 20"/>
            <p:cNvGrpSpPr/>
            <p:nvPr/>
          </p:nvGrpSpPr>
          <p:grpSpPr>
            <a:xfrm>
              <a:off x="1244520" y="3638520"/>
              <a:ext cx="1203840" cy="658080"/>
              <a:chOff x="1244520" y="3638520"/>
              <a:chExt cx="1203840" cy="658080"/>
            </a:xfrm>
          </p:grpSpPr>
          <p:sp>
            <p:nvSpPr>
              <p:cNvPr id="1006" name="立方体 15"/>
              <p:cNvSpPr/>
              <p:nvPr/>
            </p:nvSpPr>
            <p:spPr>
              <a:xfrm>
                <a:off x="1244520" y="3638520"/>
                <a:ext cx="1203840" cy="658080"/>
              </a:xfrm>
              <a:prstGeom prst="cube">
                <a:avLst>
                  <a:gd name="adj" fmla="val 36601"/>
                </a:avLst>
              </a:prstGeom>
              <a:solidFill>
                <a:srgbClr val="ffff00"/>
              </a:solidFill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矩形 16"/>
              <p:cNvSpPr/>
              <p:nvPr/>
            </p:nvSpPr>
            <p:spPr>
              <a:xfrm>
                <a:off x="1276200" y="3903120"/>
                <a:ext cx="899280" cy="360000"/>
              </a:xfrm>
              <a:prstGeom prst="rect">
                <a:avLst/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平行四边形 18"/>
              <p:cNvSpPr/>
              <p:nvPr/>
            </p:nvSpPr>
            <p:spPr>
              <a:xfrm>
                <a:off x="1527480" y="3694680"/>
                <a:ext cx="628200" cy="117720"/>
              </a:xfrm>
              <a:prstGeom prst="parallelogram">
                <a:avLst>
                  <a:gd name="adj" fmla="val 96574"/>
                </a:avLst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直接连接符 19"/>
              <p:cNvSpPr/>
              <p:nvPr/>
            </p:nvSpPr>
            <p:spPr>
              <a:xfrm>
                <a:off x="1646280" y="3696120"/>
                <a:ext cx="0" cy="107640"/>
              </a:xfrm>
              <a:prstGeom prst="line">
                <a:avLst/>
              </a:prstGeom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0" name="组合 21"/>
            <p:cNvGrpSpPr/>
            <p:nvPr/>
          </p:nvGrpSpPr>
          <p:grpSpPr>
            <a:xfrm>
              <a:off x="3858480" y="3638520"/>
              <a:ext cx="1203840" cy="658080"/>
              <a:chOff x="3858480" y="3638520"/>
              <a:chExt cx="1203840" cy="658080"/>
            </a:xfrm>
          </p:grpSpPr>
          <p:sp>
            <p:nvSpPr>
              <p:cNvPr id="1011" name="立方体 22"/>
              <p:cNvSpPr/>
              <p:nvPr/>
            </p:nvSpPr>
            <p:spPr>
              <a:xfrm>
                <a:off x="3858480" y="3638520"/>
                <a:ext cx="1203840" cy="658080"/>
              </a:xfrm>
              <a:prstGeom prst="cube">
                <a:avLst>
                  <a:gd name="adj" fmla="val 36601"/>
                </a:avLst>
              </a:prstGeom>
              <a:solidFill>
                <a:srgbClr val="ffff00"/>
              </a:solidFill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矩形 23"/>
              <p:cNvSpPr/>
              <p:nvPr/>
            </p:nvSpPr>
            <p:spPr>
              <a:xfrm>
                <a:off x="3890160" y="3903120"/>
                <a:ext cx="899280" cy="360000"/>
              </a:xfrm>
              <a:prstGeom prst="rect">
                <a:avLst/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平行四边形 24"/>
              <p:cNvSpPr/>
              <p:nvPr/>
            </p:nvSpPr>
            <p:spPr>
              <a:xfrm>
                <a:off x="4141440" y="3694680"/>
                <a:ext cx="628200" cy="117720"/>
              </a:xfrm>
              <a:prstGeom prst="parallelogram">
                <a:avLst>
                  <a:gd name="adj" fmla="val 96574"/>
                </a:avLst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直接连接符 25"/>
              <p:cNvSpPr/>
              <p:nvPr/>
            </p:nvSpPr>
            <p:spPr>
              <a:xfrm>
                <a:off x="4260240" y="3696120"/>
                <a:ext cx="0" cy="107640"/>
              </a:xfrm>
              <a:prstGeom prst="line">
                <a:avLst/>
              </a:prstGeom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5" name="组合 26"/>
            <p:cNvGrpSpPr/>
            <p:nvPr/>
          </p:nvGrpSpPr>
          <p:grpSpPr>
            <a:xfrm>
              <a:off x="6473160" y="3638520"/>
              <a:ext cx="1203840" cy="658080"/>
              <a:chOff x="6473160" y="3638520"/>
              <a:chExt cx="1203840" cy="658080"/>
            </a:xfrm>
          </p:grpSpPr>
          <p:sp>
            <p:nvSpPr>
              <p:cNvPr id="1016" name="立方体 27"/>
              <p:cNvSpPr/>
              <p:nvPr/>
            </p:nvSpPr>
            <p:spPr>
              <a:xfrm>
                <a:off x="6473160" y="3638520"/>
                <a:ext cx="1203840" cy="658080"/>
              </a:xfrm>
              <a:prstGeom prst="cube">
                <a:avLst>
                  <a:gd name="adj" fmla="val 36601"/>
                </a:avLst>
              </a:prstGeom>
              <a:solidFill>
                <a:srgbClr val="ffff00"/>
              </a:solidFill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矩形 28"/>
              <p:cNvSpPr/>
              <p:nvPr/>
            </p:nvSpPr>
            <p:spPr>
              <a:xfrm>
                <a:off x="6504840" y="3903120"/>
                <a:ext cx="899280" cy="360000"/>
              </a:xfrm>
              <a:prstGeom prst="rect">
                <a:avLst/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平行四边形 35"/>
              <p:cNvSpPr/>
              <p:nvPr/>
            </p:nvSpPr>
            <p:spPr>
              <a:xfrm>
                <a:off x="6756120" y="3694680"/>
                <a:ext cx="628200" cy="117720"/>
              </a:xfrm>
              <a:prstGeom prst="parallelogram">
                <a:avLst>
                  <a:gd name="adj" fmla="val 96574"/>
                </a:avLst>
              </a:prstGeom>
              <a:noFill/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直接连接符 36"/>
              <p:cNvSpPr/>
              <p:nvPr/>
            </p:nvSpPr>
            <p:spPr>
              <a:xfrm>
                <a:off x="6874920" y="3696120"/>
                <a:ext cx="0" cy="107640"/>
              </a:xfrm>
              <a:prstGeom prst="line">
                <a:avLst/>
              </a:prstGeom>
              <a:ln w="648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文本框 37"/>
            <p:cNvSpPr/>
            <p:nvPr/>
          </p:nvSpPr>
          <p:spPr>
            <a:xfrm>
              <a:off x="1413720" y="3825000"/>
              <a:ext cx="6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文本框 38"/>
            <p:cNvSpPr/>
            <p:nvPr/>
          </p:nvSpPr>
          <p:spPr>
            <a:xfrm>
              <a:off x="4042800" y="3823920"/>
              <a:ext cx="6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文本框 39"/>
            <p:cNvSpPr/>
            <p:nvPr/>
          </p:nvSpPr>
          <p:spPr>
            <a:xfrm>
              <a:off x="6671880" y="3822480"/>
              <a:ext cx="62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3" name="直接连接符 41"/>
          <p:cNvSpPr/>
          <p:nvPr/>
        </p:nvSpPr>
        <p:spPr>
          <a:xfrm>
            <a:off x="1085760" y="1784520"/>
            <a:ext cx="88128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直接连接符 42"/>
          <p:cNvSpPr/>
          <p:nvPr/>
        </p:nvSpPr>
        <p:spPr>
          <a:xfrm>
            <a:off x="2809800" y="1784520"/>
            <a:ext cx="177156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直接连接符 43"/>
          <p:cNvSpPr/>
          <p:nvPr/>
        </p:nvSpPr>
        <p:spPr>
          <a:xfrm flipV="1">
            <a:off x="7194600" y="1784520"/>
            <a:ext cx="78588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直接连接符 44"/>
          <p:cNvSpPr/>
          <p:nvPr/>
        </p:nvSpPr>
        <p:spPr>
          <a:xfrm flipV="1">
            <a:off x="1967040" y="1784520"/>
            <a:ext cx="428940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直接连接符 46"/>
          <p:cNvSpPr/>
          <p:nvPr/>
        </p:nvSpPr>
        <p:spPr>
          <a:xfrm flipH="1" flipV="1">
            <a:off x="4533480" y="1784520"/>
            <a:ext cx="2660760" cy="18540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文本框 2"/>
          <p:cNvSpPr/>
          <p:nvPr/>
        </p:nvSpPr>
        <p:spPr>
          <a:xfrm>
            <a:off x="396720" y="809640"/>
            <a:ext cx="256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列竖式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组合 49"/>
          <p:cNvGrpSpPr/>
          <p:nvPr/>
        </p:nvGrpSpPr>
        <p:grpSpPr>
          <a:xfrm>
            <a:off x="576360" y="1346040"/>
            <a:ext cx="8156520" cy="2596680"/>
            <a:chOff x="576360" y="1346040"/>
            <a:chExt cx="8156520" cy="2596680"/>
          </a:xfrm>
        </p:grpSpPr>
        <p:sp>
          <p:nvSpPr>
            <p:cNvPr id="1030" name="文本框 6"/>
            <p:cNvSpPr/>
            <p:nvPr/>
          </p:nvSpPr>
          <p:spPr>
            <a:xfrm>
              <a:off x="576360" y="13460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8-45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文本框 7"/>
            <p:cNvSpPr/>
            <p:nvPr/>
          </p:nvSpPr>
          <p:spPr>
            <a:xfrm>
              <a:off x="2664360" y="13464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-34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文本框 8"/>
            <p:cNvSpPr/>
            <p:nvPr/>
          </p:nvSpPr>
          <p:spPr>
            <a:xfrm>
              <a:off x="4753080" y="134712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2-17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文本框 9"/>
            <p:cNvSpPr/>
            <p:nvPr/>
          </p:nvSpPr>
          <p:spPr>
            <a:xfrm>
              <a:off x="6841440" y="134784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8-1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文本框 10"/>
            <p:cNvSpPr/>
            <p:nvPr/>
          </p:nvSpPr>
          <p:spPr>
            <a:xfrm>
              <a:off x="576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-39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文本框 12"/>
            <p:cNvSpPr/>
            <p:nvPr/>
          </p:nvSpPr>
          <p:spPr>
            <a:xfrm>
              <a:off x="266436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4-7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文本框 14"/>
            <p:cNvSpPr/>
            <p:nvPr/>
          </p:nvSpPr>
          <p:spPr>
            <a:xfrm>
              <a:off x="475308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-68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文本框 15"/>
            <p:cNvSpPr/>
            <p:nvPr/>
          </p:nvSpPr>
          <p:spPr>
            <a:xfrm>
              <a:off x="6841440" y="3483000"/>
              <a:ext cx="189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1-37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组合 18"/>
          <p:cNvGrpSpPr/>
          <p:nvPr/>
        </p:nvGrpSpPr>
        <p:grpSpPr>
          <a:xfrm>
            <a:off x="620640" y="1835280"/>
            <a:ext cx="919080" cy="1191240"/>
            <a:chOff x="620640" y="1835280"/>
            <a:chExt cx="919080" cy="1191240"/>
          </a:xfrm>
        </p:grpSpPr>
        <p:sp>
          <p:nvSpPr>
            <p:cNvPr id="1039" name="文本框 16"/>
            <p:cNvSpPr/>
            <p:nvPr/>
          </p:nvSpPr>
          <p:spPr>
            <a:xfrm>
              <a:off x="62064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4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直接连接符 17"/>
            <p:cNvSpPr/>
            <p:nvPr/>
          </p:nvSpPr>
          <p:spPr>
            <a:xfrm>
              <a:off x="70056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组合 19"/>
          <p:cNvGrpSpPr/>
          <p:nvPr/>
        </p:nvGrpSpPr>
        <p:grpSpPr>
          <a:xfrm>
            <a:off x="2735280" y="1835280"/>
            <a:ext cx="919080" cy="1191240"/>
            <a:chOff x="2735280" y="1835280"/>
            <a:chExt cx="919080" cy="1191240"/>
          </a:xfrm>
        </p:grpSpPr>
        <p:sp>
          <p:nvSpPr>
            <p:cNvPr id="1042" name="文本框 20"/>
            <p:cNvSpPr/>
            <p:nvPr/>
          </p:nvSpPr>
          <p:spPr>
            <a:xfrm>
              <a:off x="273528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6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3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直接连接符 21"/>
            <p:cNvSpPr/>
            <p:nvPr/>
          </p:nvSpPr>
          <p:spPr>
            <a:xfrm>
              <a:off x="281520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组合 22"/>
          <p:cNvGrpSpPr/>
          <p:nvPr/>
        </p:nvGrpSpPr>
        <p:grpSpPr>
          <a:xfrm>
            <a:off x="4848120" y="1835280"/>
            <a:ext cx="919440" cy="1191240"/>
            <a:chOff x="4848120" y="1835280"/>
            <a:chExt cx="919440" cy="1191240"/>
          </a:xfrm>
        </p:grpSpPr>
        <p:sp>
          <p:nvSpPr>
            <p:cNvPr id="1045" name="文本框 23"/>
            <p:cNvSpPr/>
            <p:nvPr/>
          </p:nvSpPr>
          <p:spPr>
            <a:xfrm>
              <a:off x="4848120" y="183528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4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1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直接连接符 24"/>
            <p:cNvSpPr/>
            <p:nvPr/>
          </p:nvSpPr>
          <p:spPr>
            <a:xfrm>
              <a:off x="492804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组合 25"/>
          <p:cNvGrpSpPr/>
          <p:nvPr/>
        </p:nvGrpSpPr>
        <p:grpSpPr>
          <a:xfrm>
            <a:off x="6962760" y="1835280"/>
            <a:ext cx="919080" cy="1191240"/>
            <a:chOff x="6962760" y="1835280"/>
            <a:chExt cx="919080" cy="1191240"/>
          </a:xfrm>
        </p:grpSpPr>
        <p:sp>
          <p:nvSpPr>
            <p:cNvPr id="1048" name="文本框 26"/>
            <p:cNvSpPr/>
            <p:nvPr/>
          </p:nvSpPr>
          <p:spPr>
            <a:xfrm>
              <a:off x="6962760" y="183528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1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 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直接连接符 27"/>
            <p:cNvSpPr/>
            <p:nvPr/>
          </p:nvSpPr>
          <p:spPr>
            <a:xfrm>
              <a:off x="7042680" y="25635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组合 28"/>
          <p:cNvGrpSpPr/>
          <p:nvPr/>
        </p:nvGrpSpPr>
        <p:grpSpPr>
          <a:xfrm>
            <a:off x="612720" y="4089240"/>
            <a:ext cx="919080" cy="1191240"/>
            <a:chOff x="612720" y="4089240"/>
            <a:chExt cx="919080" cy="1191240"/>
          </a:xfrm>
        </p:grpSpPr>
        <p:sp>
          <p:nvSpPr>
            <p:cNvPr id="1051" name="文本框 35"/>
            <p:cNvSpPr/>
            <p:nvPr/>
          </p:nvSpPr>
          <p:spPr>
            <a:xfrm>
              <a:off x="612720" y="408924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3 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3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直接连接符 36"/>
            <p:cNvSpPr/>
            <p:nvPr/>
          </p:nvSpPr>
          <p:spPr>
            <a:xfrm>
              <a:off x="692640" y="481896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组合 40"/>
          <p:cNvGrpSpPr/>
          <p:nvPr/>
        </p:nvGrpSpPr>
        <p:grpSpPr>
          <a:xfrm>
            <a:off x="2735280" y="4098960"/>
            <a:ext cx="919080" cy="1191240"/>
            <a:chOff x="2735280" y="4098960"/>
            <a:chExt cx="919080" cy="1191240"/>
          </a:xfrm>
        </p:grpSpPr>
        <p:sp>
          <p:nvSpPr>
            <p:cNvPr id="1054" name="文本框 41"/>
            <p:cNvSpPr/>
            <p:nvPr/>
          </p:nvSpPr>
          <p:spPr>
            <a:xfrm>
              <a:off x="273528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8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  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7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直接连接符 42"/>
            <p:cNvSpPr/>
            <p:nvPr/>
          </p:nvSpPr>
          <p:spPr>
            <a:xfrm>
              <a:off x="2815200" y="4827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组合 43"/>
          <p:cNvGrpSpPr/>
          <p:nvPr/>
        </p:nvGrpSpPr>
        <p:grpSpPr>
          <a:xfrm>
            <a:off x="4848120" y="4098960"/>
            <a:ext cx="919440" cy="1191240"/>
            <a:chOff x="4848120" y="4098960"/>
            <a:chExt cx="919440" cy="1191240"/>
          </a:xfrm>
        </p:grpSpPr>
        <p:sp>
          <p:nvSpPr>
            <p:cNvPr id="1057" name="文本框 44"/>
            <p:cNvSpPr/>
            <p:nvPr/>
          </p:nvSpPr>
          <p:spPr>
            <a:xfrm>
              <a:off x="4848120" y="4098960"/>
              <a:ext cx="919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9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6 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直接连接符 45"/>
            <p:cNvSpPr/>
            <p:nvPr/>
          </p:nvSpPr>
          <p:spPr>
            <a:xfrm>
              <a:off x="4928040" y="4827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组合 46"/>
          <p:cNvGrpSpPr/>
          <p:nvPr/>
        </p:nvGrpSpPr>
        <p:grpSpPr>
          <a:xfrm>
            <a:off x="6962760" y="4098960"/>
            <a:ext cx="919080" cy="1191240"/>
            <a:chOff x="6962760" y="4098960"/>
            <a:chExt cx="919080" cy="1191240"/>
          </a:xfrm>
        </p:grpSpPr>
        <p:sp>
          <p:nvSpPr>
            <p:cNvPr id="1060" name="文本框 47"/>
            <p:cNvSpPr/>
            <p:nvPr/>
          </p:nvSpPr>
          <p:spPr>
            <a:xfrm>
              <a:off x="6962760" y="4098960"/>
              <a:ext cx="91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5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3 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 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直接连接符 48"/>
            <p:cNvSpPr/>
            <p:nvPr/>
          </p:nvSpPr>
          <p:spPr>
            <a:xfrm>
              <a:off x="7042680" y="4827240"/>
              <a:ext cx="664560" cy="0"/>
            </a:xfrm>
            <a:prstGeom prst="line">
              <a:avLst/>
            </a:prstGeom>
            <a:ln w="64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2" name="文本框 50"/>
          <p:cNvSpPr/>
          <p:nvPr/>
        </p:nvSpPr>
        <p:spPr>
          <a:xfrm>
            <a:off x="1619280" y="133668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文本框 51"/>
          <p:cNvSpPr/>
          <p:nvPr/>
        </p:nvSpPr>
        <p:spPr>
          <a:xfrm>
            <a:off x="3691080" y="13431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文本框 52"/>
          <p:cNvSpPr/>
          <p:nvPr/>
        </p:nvSpPr>
        <p:spPr>
          <a:xfrm>
            <a:off x="5770440" y="134136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文本框 53"/>
          <p:cNvSpPr/>
          <p:nvPr/>
        </p:nvSpPr>
        <p:spPr>
          <a:xfrm>
            <a:off x="7869240" y="13399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文本框 54"/>
          <p:cNvSpPr/>
          <p:nvPr/>
        </p:nvSpPr>
        <p:spPr>
          <a:xfrm>
            <a:off x="1601640" y="3483000"/>
            <a:ext cx="5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文本框 55"/>
          <p:cNvSpPr/>
          <p:nvPr/>
        </p:nvSpPr>
        <p:spPr>
          <a:xfrm>
            <a:off x="354492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文本框 56"/>
          <p:cNvSpPr/>
          <p:nvPr/>
        </p:nvSpPr>
        <p:spPr>
          <a:xfrm>
            <a:off x="5772240" y="347652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文本框 57"/>
          <p:cNvSpPr/>
          <p:nvPr/>
        </p:nvSpPr>
        <p:spPr>
          <a:xfrm>
            <a:off x="7859880" y="348624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0" name="组合 20"/>
          <p:cNvGrpSpPr/>
          <p:nvPr/>
        </p:nvGrpSpPr>
        <p:grpSpPr>
          <a:xfrm>
            <a:off x="361800" y="876240"/>
            <a:ext cx="8247960" cy="2188080"/>
            <a:chOff x="361800" y="876240"/>
            <a:chExt cx="8247960" cy="2188080"/>
          </a:xfrm>
        </p:grpSpPr>
        <p:grpSp>
          <p:nvGrpSpPr>
            <p:cNvPr id="1071" name="组合 4"/>
            <p:cNvGrpSpPr/>
            <p:nvPr/>
          </p:nvGrpSpPr>
          <p:grpSpPr>
            <a:xfrm>
              <a:off x="361800" y="876240"/>
              <a:ext cx="3850200" cy="459720"/>
              <a:chOff x="361800" y="876240"/>
              <a:chExt cx="3850200" cy="459720"/>
            </a:xfrm>
          </p:grpSpPr>
          <p:sp>
            <p:nvSpPr>
              <p:cNvPr id="1072" name="文本框 2"/>
              <p:cNvSpPr/>
              <p:nvPr/>
            </p:nvSpPr>
            <p:spPr>
              <a:xfrm>
                <a:off x="361800" y="876240"/>
                <a:ext cx="385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在      里填上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＞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“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或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=”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椭圆 3"/>
              <p:cNvSpPr/>
              <p:nvPr/>
            </p:nvSpPr>
            <p:spPr>
              <a:xfrm>
                <a:off x="812520" y="885600"/>
                <a:ext cx="432360" cy="432000"/>
              </a:xfrm>
              <a:prstGeom prst="ellipse">
                <a:avLst/>
              </a:prstGeom>
              <a:noFill/>
              <a:ln w="12600">
                <a:solidFill>
                  <a:srgbClr val="9595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4" name="组合 12"/>
            <p:cNvGrpSpPr/>
            <p:nvPr/>
          </p:nvGrpSpPr>
          <p:grpSpPr>
            <a:xfrm>
              <a:off x="607320" y="1696320"/>
              <a:ext cx="8002440" cy="1368000"/>
              <a:chOff x="607320" y="1696320"/>
              <a:chExt cx="8002440" cy="1368000"/>
            </a:xfrm>
          </p:grpSpPr>
          <p:sp>
            <p:nvSpPr>
              <p:cNvPr id="1075" name="文本框 5"/>
              <p:cNvSpPr/>
              <p:nvPr/>
            </p:nvSpPr>
            <p:spPr>
              <a:xfrm>
                <a:off x="60732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8 -19      3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文本框 6"/>
              <p:cNvSpPr/>
              <p:nvPr/>
            </p:nvSpPr>
            <p:spPr>
              <a:xfrm>
                <a:off x="3389040" y="169632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2 -27      67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文本框 7"/>
              <p:cNvSpPr/>
              <p:nvPr/>
            </p:nvSpPr>
            <p:spPr>
              <a:xfrm>
                <a:off x="6154200" y="169668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92 -57      84-3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文本框 8"/>
              <p:cNvSpPr/>
              <p:nvPr/>
            </p:nvSpPr>
            <p:spPr>
              <a:xfrm>
                <a:off x="61344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5 -17      2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文本框 9"/>
              <p:cNvSpPr/>
              <p:nvPr/>
            </p:nvSpPr>
            <p:spPr>
              <a:xfrm>
                <a:off x="353880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82 -3      7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文本框 10"/>
              <p:cNvSpPr/>
              <p:nvPr/>
            </p:nvSpPr>
            <p:spPr>
              <a:xfrm>
                <a:off x="6176880" y="2604600"/>
                <a:ext cx="243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5 -19      70-3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1" name="椭圆 14"/>
            <p:cNvSpPr/>
            <p:nvPr/>
          </p:nvSpPr>
          <p:spPr>
            <a:xfrm>
              <a:off x="158544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椭圆 15"/>
            <p:cNvSpPr/>
            <p:nvPr/>
          </p:nvSpPr>
          <p:spPr>
            <a:xfrm>
              <a:off x="437040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椭圆 16"/>
            <p:cNvSpPr/>
            <p:nvPr/>
          </p:nvSpPr>
          <p:spPr>
            <a:xfrm>
              <a:off x="7152120" y="170460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椭圆 17"/>
            <p:cNvSpPr/>
            <p:nvPr/>
          </p:nvSpPr>
          <p:spPr>
            <a:xfrm>
              <a:off x="159156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椭圆 18"/>
            <p:cNvSpPr/>
            <p:nvPr/>
          </p:nvSpPr>
          <p:spPr>
            <a:xfrm>
              <a:off x="437652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椭圆 19"/>
            <p:cNvSpPr/>
            <p:nvPr/>
          </p:nvSpPr>
          <p:spPr>
            <a:xfrm>
              <a:off x="7158240" y="2602440"/>
              <a:ext cx="432360" cy="432360"/>
            </a:xfrm>
            <a:prstGeom prst="ellipse">
              <a:avLst/>
            </a:prstGeom>
            <a:noFill/>
            <a:ln w="12600">
              <a:solidFill>
                <a:srgbClr val="9595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7" name="文本框 21"/>
          <p:cNvSpPr/>
          <p:nvPr/>
        </p:nvSpPr>
        <p:spPr>
          <a:xfrm>
            <a:off x="15382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文本框 22"/>
          <p:cNvSpPr/>
          <p:nvPr/>
        </p:nvSpPr>
        <p:spPr>
          <a:xfrm>
            <a:off x="4335480" y="1650960"/>
            <a:ext cx="49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文本框 23"/>
          <p:cNvSpPr/>
          <p:nvPr/>
        </p:nvSpPr>
        <p:spPr>
          <a:xfrm>
            <a:off x="7112160" y="1650960"/>
            <a:ext cx="4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文本框 24"/>
          <p:cNvSpPr/>
          <p:nvPr/>
        </p:nvSpPr>
        <p:spPr>
          <a:xfrm>
            <a:off x="155592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文本框 25"/>
          <p:cNvSpPr/>
          <p:nvPr/>
        </p:nvSpPr>
        <p:spPr>
          <a:xfrm>
            <a:off x="4336920" y="2549520"/>
            <a:ext cx="4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文本框 26"/>
          <p:cNvSpPr/>
          <p:nvPr/>
        </p:nvSpPr>
        <p:spPr>
          <a:xfrm>
            <a:off x="7128000" y="2549520"/>
            <a:ext cx="4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文本框 2"/>
          <p:cNvSpPr/>
          <p:nvPr/>
        </p:nvSpPr>
        <p:spPr>
          <a:xfrm>
            <a:off x="874800" y="1425600"/>
            <a:ext cx="71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每只海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，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元买一只海螺，还剩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"/>
          <p:cNvSpPr/>
          <p:nvPr/>
        </p:nvSpPr>
        <p:spPr>
          <a:xfrm>
            <a:off x="1047600" y="2163600"/>
            <a:ext cx="582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-13=37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答：还剩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7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5T00:33:30Z</dcterms:created>
  <dc:creator/>
  <dc:description/>
  <dc:language>en-US</dc:language>
  <cp:lastModifiedBy>万润仪器贸易公司</cp:lastModifiedBy>
  <dcterms:modified xsi:type="dcterms:W3CDTF">2020-08-21T00:28:18Z</dcterms:modified>
  <cp:revision>13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